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060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524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96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060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524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253-912C-47F0-A23C-FE7F9EEE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DE4-7A20-43F6-A817-A7102673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FF6-3BBF-4F13-BA0F-C0D89A6F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C67-02D1-4C0D-9C2F-6D79658A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61D-5F7B-4146-A26C-9821808A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E3F-64E6-40FC-87FB-378D8B7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047-5DA6-4DC1-8EA2-4171C03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89D-FA0A-4A62-BC2F-854FC0F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F7B-15C9-4F5A-A1CA-18D62F0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43B-4C0F-4F6A-9BE5-E586FB8E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AF8-1727-49AC-B02C-D64D62EC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060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5240" y="91404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96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060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5240" y="3899160"/>
            <a:ext cx="28706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998-F6F7-421D-8F09-74A2BABB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4360" y="389916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360" y="914040"/>
            <a:ext cx="435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960" y="3899160"/>
            <a:ext cx="8915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76320" y="7632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042D-9F95-482B-A6C5-E3F43E1746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Q-SMCmWB1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fopLilIOe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6633"/>
                </a:solidFill>
                <a:latin typeface="Garamond"/>
              </a:rPr>
              <a:t>Life is Cellular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6 : Compare prokaryotic and eukaryotic cells in terms of their general structures and degree of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Pro vs. E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4" descr="pro_eu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karyotic vs. Eukaryotic 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ry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www.youtube.com/watch?v=RQ-SMCmWB1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Pro vs. E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4" descr="pro eu flagellated"/>
          <p:cNvPicPr/>
          <p:nvPr/>
        </p:nvPicPr>
        <p:blipFill>
          <a:blip r:embed="rId1"/>
          <a:stretch/>
        </p:blipFill>
        <p:spPr>
          <a:xfrm>
            <a:off x="1066680" y="920880"/>
            <a:ext cx="7162920" cy="5865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Auto vs. Het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 Compared: Auto vs. Het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360" y="914400"/>
            <a:ext cx="9134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 to 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are the basic units of all living thin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living things are made of cells; however, cells could not be seen until the invention of the microscop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on van Leeuwenhoek (1600s) invented the light micro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0px-Anton_van_Leeuwenhoek"/>
          <p:cNvPicPr/>
          <p:nvPr/>
        </p:nvPicPr>
        <p:blipFill>
          <a:blip r:embed="rId1"/>
          <a:stretch/>
        </p:blipFill>
        <p:spPr>
          <a:xfrm>
            <a:off x="3505320" y="4419720"/>
            <a:ext cx="1904760" cy="204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ooke's Scope"/>
          <p:cNvPicPr/>
          <p:nvPr/>
        </p:nvPicPr>
        <p:blipFill>
          <a:blip r:embed="rId2"/>
          <a:stretch/>
        </p:blipFill>
        <p:spPr>
          <a:xfrm>
            <a:off x="5562720" y="4114800"/>
            <a:ext cx="33526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croscope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579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und Light Microsco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larges an image with more than on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e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 Microsco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h more power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beams of electrons to produce an image on a 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you will use in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ICRO-labeled"/>
          <p:cNvPicPr/>
          <p:nvPr/>
        </p:nvPicPr>
        <p:blipFill>
          <a:blip r:embed="rId1"/>
          <a:stretch/>
        </p:blipFill>
        <p:spPr>
          <a:xfrm>
            <a:off x="5791320" y="152280"/>
            <a:ext cx="3200400" cy="298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ransmission-electron-microscope"/>
          <p:cNvPicPr/>
          <p:nvPr/>
        </p:nvPicPr>
        <p:blipFill>
          <a:blip r:embed="rId2"/>
          <a:stretch/>
        </p:blipFill>
        <p:spPr>
          <a:xfrm>
            <a:off x="5638680" y="3200400"/>
            <a:ext cx="225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s are the basic units of living 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ells contain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rane that defines the cell as a distinct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what goes into and out of the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us or Nucle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A-containing region of the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fluid matrix found between the plasma membrane and the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the organel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for translating DNA into prote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he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 developed from the observations of many scient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bert Hooke (166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cork under a 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empty cells in the c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he term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hias Schleiden (183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hat all plants are made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dor Schwann (183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that all animals are made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dolph Virchow (18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at living things come only from the division of existing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ork cells"/>
          <p:cNvPicPr/>
          <p:nvPr/>
        </p:nvPicPr>
        <p:blipFill>
          <a:blip r:embed="rId1"/>
          <a:srcRect l="0" t="0" r="3297" b="0"/>
          <a:stretch/>
        </p:blipFill>
        <p:spPr>
          <a:xfrm>
            <a:off x="5943600" y="109440"/>
            <a:ext cx="3124080" cy="293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ell93"/>
          <p:cNvPicPr/>
          <p:nvPr/>
        </p:nvPicPr>
        <p:blipFill>
          <a:blip r:embed="rId2"/>
          <a:stretch/>
        </p:blipFill>
        <p:spPr>
          <a:xfrm>
            <a:off x="6324480" y="3200400"/>
            <a:ext cx="1309680" cy="1424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ell91"/>
          <p:cNvPicPr/>
          <p:nvPr/>
        </p:nvPicPr>
        <p:blipFill>
          <a:blip r:embed="rId3"/>
          <a:stretch/>
        </p:blipFill>
        <p:spPr>
          <a:xfrm>
            <a:off x="6629400" y="4952880"/>
            <a:ext cx="19051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he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ork was confirmed by other scientis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n cell theory has 3 par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rganisms are composed of one or more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basic unit of organization (structure and function) in org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ells come from preexisting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 means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nucleu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nucleus or other structure surrounded by 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ly precursors to chloroplasts and mitochond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archaea &amp; eu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rocaryote"/>
          <p:cNvPicPr/>
          <p:nvPr/>
        </p:nvPicPr>
        <p:blipFill>
          <a:blip r:embed="rId1"/>
          <a:stretch/>
        </p:blipFill>
        <p:spPr>
          <a:xfrm>
            <a:off x="5291280" y="228600"/>
            <a:ext cx="3852720" cy="441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General%20Bacteria"/>
          <p:cNvPicPr/>
          <p:nvPr/>
        </p:nvPicPr>
        <p:blipFill>
          <a:blip r:embed="rId2"/>
          <a:stretch/>
        </p:blipFill>
        <p:spPr>
          <a:xfrm>
            <a:off x="5867280" y="4584600"/>
            <a:ext cx="2286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ll Ty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 means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nucleu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ucleus and other structures surrounded by membra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animals, plants, fungi, protists (Eukary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nimalcell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71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ells"/>
          <p:cNvPicPr/>
          <p:nvPr/>
        </p:nvPicPr>
        <p:blipFill>
          <a:blip r:embed="rId2"/>
          <a:stretch/>
        </p:blipFill>
        <p:spPr>
          <a:xfrm>
            <a:off x="152280" y="4498920"/>
            <a:ext cx="3886200" cy="235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lant%20cell72-1"/>
          <p:cNvPicPr/>
          <p:nvPr/>
        </p:nvPicPr>
        <p:blipFill>
          <a:blip r:embed="rId3"/>
          <a:stretch/>
        </p:blipFill>
        <p:spPr>
          <a:xfrm>
            <a:off x="5257800" y="3727440"/>
            <a:ext cx="33526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ukaryotic/Animal Cells and their Organel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9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www.youtube.com/watch?v=MfopLilIO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2:15:29Z</dcterms:created>
  <dc:creator>Zebulon Holsopple</dc:creator>
  <dc:description/>
  <dc:language>en-US</dc:language>
  <cp:lastModifiedBy>Geneva Jost</cp:lastModifiedBy>
  <dcterms:modified xsi:type="dcterms:W3CDTF">2016-10-31T17:51:37Z</dcterms:modified>
  <cp:revision>19</cp:revision>
  <dc:subject>Biology Honors</dc:subject>
  <dc:title>1.1.1_Notes_IntroductionToCells</dc:title>
</cp:coreProperties>
</file>